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424-FB39-402B-ADCA-0A43F330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596-0864-499F-A99E-A9EBB967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770-87F5-48B8-9AAF-5F9EECDB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89C-C8A6-495B-B97D-10A4D1E5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4CD-2B6D-4148-B3B9-33C8899B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3C8-4459-4279-A99E-8BF1B5C5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C2B-A896-4174-B207-06D70240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CDD-9F6A-4198-9285-527D7D69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992-9D2E-484B-9A8E-3E2F4A07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840-E53A-4068-9E08-FCAA1C8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B26-2EA2-4162-8C5F-E440F12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DBC-C3C4-45ED-B168-956C09F4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6177-9C03-410C-AA2C-901289A87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About 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so many friends and I love them ALL!!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Cedar Grove-Belgium Middle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2819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6600"/>
            </a:gs>
            <a:gs pos="100000">
              <a:srgbClr val="66ff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my life, I love everyone that is involved with it! My parents are very lovable, and so are my friends. My friends are ALWAYS there for me whenever I need help or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46Z</dcterms:created>
  <dc:creator>CGB</dc:creator>
  <dc:description/>
  <dc:language>en-US</dc:language>
  <cp:lastModifiedBy>CGB</cp:lastModifiedBy>
  <dcterms:modified xsi:type="dcterms:W3CDTF">2008-06-05T13:49:55Z</dcterms:modified>
  <cp:revision>6</cp:revision>
  <dc:subject/>
  <dc:title>Paulette Salazar</dc:title>
</cp:coreProperties>
</file>